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0D0-76CA-4BF9-A690-6A70687C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59A-DF7E-4E96-B57C-FBC57607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A4B-0E2E-477D-83F8-5BE2EB63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255-B4CF-4BC8-B862-0BEECD7D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661-0D5D-42ED-977C-54FE1E68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24C-8FDE-4C8A-8F08-1579431C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185-5609-4253-AA0F-68FEA988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2CB2-6388-4794-AD53-39604C03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CB1-D6A7-4A8E-BECC-A2C12163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2F0-55FD-4F15-AD91-C018DBC5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9D0-ECFF-44D3-BE8C-6AA9CCB6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824-4F09-4EF3-8E00-24D1EFC3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843F-5892-4B94-900A-744BB466B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 aplikáci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j Morav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č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2008080"/>
            <a:ext cx="866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tvorený študentmi na štýl wiki so študijnými materiálmi z matfyz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istória skúšok, história minuloročných písomiek projektov a zadaní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editovania testov a prerábaní do interaktívnej formy s automatickým hodnot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dnášky a iné materiály k predme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lavná idea projektu je zhotoviť jedno veľké úložisko dát, ktoré pomôžu študentovi s daným predme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vigá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840" y="2008080"/>
            <a:ext cx="86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vigácia vo viacerých vrstv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lavná navigácia sekcia s predmetmi, poradňa, fór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sekcie jednotlivých predmeto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teriály od vyučujúceho, vypraované poznámky od nadšencov..., história skúšok, písomiek, projektov... + hotové vypracovania alebo možnosť vypracovani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ánovač a t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1840" y="2008080"/>
            <a:ext cx="866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spoločného dopĺnania plánovača uda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riešenia testov z daného predmetu tvorené užívateľmi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1:50:17Z</dcterms:created>
  <dc:creator>matej</dc:creator>
  <dc:description/>
  <dc:language>en-US</dc:language>
  <cp:lastModifiedBy>matej</cp:lastModifiedBy>
  <dcterms:modified xsi:type="dcterms:W3CDTF">2008-12-01T12:51:27Z</dcterms:modified>
  <cp:revision>2</cp:revision>
  <dc:subject/>
  <dc:title>E-learningová aplikácia  Matej Moravčík</dc:title>
</cp:coreProperties>
</file>