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8C6-D88F-4A58-95AA-DA8AA470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B1E-61A8-43A8-BBDF-47698E45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33B-1FA4-4565-8147-D7C26EB1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D23-EA75-4D96-AFFB-F25A46E6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D30-57B0-44EE-B428-A5058C6C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162-BD4E-43FB-85F0-220D49E8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15F-D316-4B24-AE84-9038B3BE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07E-AABB-42A7-B825-78397C8C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9D8-0B34-4F0B-A7F2-893CC7C9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7E0-38C9-49E5-B583-6EBE2CDF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43F-8110-4DA7-B1B3-DBDA7C78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950-2FD3-4163-90B1-00C6B6DF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A3798-06B3-4CBD-AA12-D2A6D3661F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edi.fmph.uniba.sk/tomcsanyi/interpreter.zip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zácia počítačových systém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864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Proce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nútorná pamä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onkajšie pamä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stupné a výstupné zariad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8280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vojitý 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900080"/>
            <a:ext cx="8280360" cy="22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perskalárna architektú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6356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825560"/>
            <a:ext cx="8280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ltiprocesorové systé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0010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nútorná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1440000"/>
            <a:ext cx="900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o vlastne pole dĺžky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zostávajúce z S-bitových hodn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2160720"/>
            <a:ext cx="738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 súčasnosti je väčšinou S=8, teda pamäť sa adresuje po bajt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879640"/>
            <a:ext cx="73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-bitový procesor, dve možné definí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ú dátovú zbernicu (vie preniesť N-bitov z/do pamäti v jednom cyk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é všeobecné registre a aritmeticko-logickú jednotku (vie vo svojom vnútri pracovať s N-bitovými hodnota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Často je to to isté, ale nemusí to tak byť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4870440"/>
            <a:ext cx="738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účasné N-bitové procesory majú väčšinou N deliteľné 8, teda pracujú naraz s niekoľkými bajt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radie bajtov v pamä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144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-bitový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5200" y="1440000"/>
            <a:ext cx="376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mäť adresovaná po baj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36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22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74192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021200"/>
            <a:ext cx="900360" cy="720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366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330048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94156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58120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475452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9280" y="36752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332748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9280" y="29811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6680" y="26258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809880"/>
            <a:ext cx="4751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nes 4 bajty z adresy 1420 do reg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964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928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6" idx="3"/>
            <a:endCxn id="105" idx="2"/>
          </p:cNvCxnSpPr>
          <p:nvPr/>
        </p:nvCxnSpPr>
        <p:spPr>
          <a:xfrm rot="10800000">
            <a:off x="3598200" y="2580480"/>
            <a:ext cx="2880360" cy="1267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117" idx="3"/>
            <a:endCxn id="106" idx="2"/>
          </p:cNvCxnSpPr>
          <p:nvPr/>
        </p:nvCxnSpPr>
        <p:spPr>
          <a:xfrm rot="10800000">
            <a:off x="2878920" y="2580480"/>
            <a:ext cx="360108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07" idx="2"/>
          </p:cNvCxnSpPr>
          <p:nvPr/>
        </p:nvCxnSpPr>
        <p:spPr>
          <a:xfrm rot="10800000">
            <a:off x="2158200" y="2580480"/>
            <a:ext cx="4320360" cy="57384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9" idx="3"/>
            <a:endCxn id="104" idx="2"/>
          </p:cNvCxnSpPr>
          <p:nvPr/>
        </p:nvCxnSpPr>
        <p:spPr>
          <a:xfrm rot="10800000">
            <a:off x="1439280" y="2580480"/>
            <a:ext cx="502812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stCxn id="111" idx="3"/>
            <a:endCxn id="121" idx="2"/>
          </p:cNvCxnSpPr>
          <p:nvPr/>
        </p:nvCxnSpPr>
        <p:spPr>
          <a:xfrm flipV="1" rot="10800000">
            <a:off x="1439280" y="3839760"/>
            <a:ext cx="5941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24" idx="2"/>
          </p:cNvCxnSpPr>
          <p:nvPr/>
        </p:nvCxnSpPr>
        <p:spPr>
          <a:xfrm flipV="1" rot="10800000">
            <a:off x="2158200" y="3481200"/>
            <a:ext cx="5220360" cy="21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stCxn id="113" idx="3"/>
            <a:endCxn id="123" idx="2"/>
          </p:cNvCxnSpPr>
          <p:nvPr/>
        </p:nvCxnSpPr>
        <p:spPr>
          <a:xfrm flipV="1" rot="10800000">
            <a:off x="2878920" y="3120840"/>
            <a:ext cx="4501440" cy="252144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4" idx="3"/>
            <a:endCxn id="122" idx="2"/>
          </p:cNvCxnSpPr>
          <p:nvPr/>
        </p:nvCxnSpPr>
        <p:spPr>
          <a:xfrm flipV="1" rot="10800000">
            <a:off x="3598200" y="2760480"/>
            <a:ext cx="3780360" cy="28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117440" y="4875120"/>
            <a:ext cx="25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812960"/>
            <a:ext cx="25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che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8820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Je rýchlejšia ale menšia než vnútorná pamä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Uchováva najčastejšie používané časti vnútornej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Logicky je medzi procesorom a vnútornou pamäťou, fyzické implementácie za môžu líši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7143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onkajšia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72010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659640"/>
            <a:ext cx="846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a druhov pamä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166068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7360" y="500076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äč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838560" y="2696760"/>
            <a:ext cx="162252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gnetické di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0160" y="1616040"/>
            <a:ext cx="7920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720" y="6084720"/>
            <a:ext cx="4680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čítač s jednou zbernic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oc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am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iekoľko vstupno/výstupných zaria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héma počítača s jednou zberni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206360"/>
            <a:ext cx="7559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cké dis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720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0360" y="1627200"/>
            <a:ext cx="90010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0360" y="5400720"/>
            <a:ext cx="936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ič zariaden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ntroller) je elektronika, ktora slúži na pripojenie zariadenia ku zber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 môže byť veľmi jednoduchý (napr. klávesnica) alebo to môže byť celý samostatný počítač s vysokým výkonom (grafická kar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átor programuje povely pre radič a až ten riadi samotné zariad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e obsahujú svoje registre a niekedy aj väčšie úseky pamä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60360"/>
            <a:ext cx="972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ôsoby prenosu dát medzi radičom zariadenia a procesorom/pamä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440000"/>
            <a:ext cx="9360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Špeciálne vstupno výstupné inštruk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a prenos údajov medzi registrami procesora a registrami či pamäťou radičov sa použijú špeciálne inštrukcie strojového kódu. Nazývajú sa väčšinou IN a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Mapovanie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Časť adresného priestoru (väčšinou spojitý interval na konci adresného priestoru) pamäte sa “zoberie” vnútornej pamäti a pridelí sa registrom radičov a pamäti v radič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Údaje sa potom prenášajú rovnakými inštruckiami ako z/do vnútornej pamä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DMA - Direct Memory Access (Priamy prístup do pamä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Radič zariadenia môže komunikovať priamo s pamäťou. Operácia sa začne zápisom do registra radiča niektorou s predošlých metód. Potom sa však dáta prenášajú priamo medzi pamäťou a radičom bez účasti proces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o skončení operácie vyšle radič signál žiadosti 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rerušen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, procesor reaguje vykonaním špecifického pod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828036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20720" y="6840360"/>
            <a:ext cx="828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ázok ukazuje štruktúru počítača PC s viacerými zbernic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60360"/>
            <a:ext cx="9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0720" y="1216080"/>
            <a:ext cx="5400720" cy="52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84036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átová cesta (data path) - Schéma toku dát v typickom proces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ykonávanie inštru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1440000"/>
            <a:ext cx="93600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ďalšiu inštrukciu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eň register PC tak aby ukazoval na ďalšiu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isti druh inštru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 inštrukcia potrebuje operand z pamäti, tak zisti jeho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operand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konaj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račuj znova krokom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86120"/>
            <a:ext cx="55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architektúry hypotetického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29280" y="3460680"/>
            <a:ext cx="1800360" cy="25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3581280"/>
            <a:ext cx="5040360" cy="19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60360"/>
            <a:ext cx="918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ulátor je program, ktorý interpretuje inštrukcie strojového kódu konkrétneho (hypotetického alebo skutočného) procesora a simuluje prácu celého počít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9700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áš jednoduchý emulátor slúži ako ukážka toho, čo sa deje vo vnútri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260360"/>
            <a:ext cx="34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strojových inštruk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38160" y="1639800"/>
          <a:ext cx="8421840" cy="28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639800"/>
                    <a:ext cx="84218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20720" y="4500720"/>
            <a:ext cx="34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zorov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991040"/>
          <a:ext cx="4870440" cy="20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991040"/>
                    <a:ext cx="48704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1603440"/>
            <a:ext cx="81010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gram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pr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$APPTYPE CONSO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m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0..255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yte; // Pamä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 Byte; // Register adresy inštrukcie, ktorá sa má vykon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 Byte;  // Register inštrukcií - práve vykonávaná inštruk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 Byte;  // Akumulátor - register pre operandy a výsledky inštrukci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 Byte;// Register adresy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=0;    // Počiatočné nas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=Pam[PC];          // vyber ďalšiu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      // zvýš počítad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// zisti druh inštruk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0: ;             // inštrukcia NOP - neurob ni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1:               // inštrukcia LDA - vlož do A hodnotu z 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= Pam[PC]; // zisti adresu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Pam[Adr];   // vyber operand a tým aj vykonaj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2: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nti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079640"/>
            <a:ext cx="95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letný program nájdete na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user.edi.fmph.uniba.sk/tomcsanyi/interpreter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kroprogramovanie, CISC versus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260360"/>
            <a:ext cx="594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vé počítače mali strojový kód implementovaný pomocou logických obvodov (hardvé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2664000"/>
            <a:ext cx="59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60. rokoch 20. storočia sa ujal spôsob implementácie, kde je hardware jednoduchší a strojový kód je implementovaný softwarovo pomocou mikroprogramu. Hardware vykonáva mikroinštrukcie a v jazyku mikroinštrukcií je naprogramovaný interpreter strojového kó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360" y="4680000"/>
            <a:ext cx="918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70. rokoch sa tento prístup rozšíril a umožnil vyvinúť procesory s rozsiahlym súborom inštrukcií (stovky druhov inštrukcií). Takéto procesory (a na nich založené počítače) označujeme skratko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lex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80. rokoch 20. storočia sa objavila myšlienka, že návrat k menšiemu počtu inštrukcií priamo vykonávaných hardwarom umožńí urýchliť procesory. Nazývame ich RISC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duc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účasné procesory často kombinujú prístupy CISC a RISC - menší počet rýchlych jednoduchých hardwarovo vykonávaných inštrukcií a ďalšie zložitejšie inštrukcie vykonávané mikroprogram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18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0" y="161928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126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240000"/>
            <a:ext cx="2880000" cy="360360"/>
          </a:xfrm>
          <a:prstGeom prst="flowChartProcess">
            <a:avLst/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mikro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00" y="306072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378000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3600360"/>
            <a:ext cx="1800" cy="179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ýchľovanie počítač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68400"/>
            <a:ext cx="9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vyšovať rýchlosť procesorov zvýšením frekvencie hodín je už (takmer) ne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 je rýchlosť svet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 frekvencii 1GHz je čas jedného taktu 1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ktrický signál prejde vo vákuu za 1ns dráhu 30cm, v kremíku asi 20cm. Pri 10GHz je to len 2cm. To už môže byť menej, než je dĺžka spoja medzi časťami proce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1362240"/>
            <a:ext cx="4213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Zrýchlime h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341964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Paralelizmus vo vnútri proc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5141880"/>
            <a:ext cx="720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. Paralelizmus mimo proces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930480"/>
            <a:ext cx="918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vojitý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perska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730840"/>
            <a:ext cx="9180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D, polia proceso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rocesorov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očítačové systémy, clustre počít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